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E6F-4DE0-4A52-AC81-35CDF29E3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74F3-9D99-47F8-994B-82779445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2634-E2AA-4A22-AF24-75CBFDDA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2CA-BB28-4D5F-BE7D-8F57E02C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2D1-9714-4466-9121-C0D6FB9C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DE7E1-5EB1-460F-8E31-666AE520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6EFB9-0D36-4AB4-9734-0466425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A9318-8772-4C7F-BD38-23A69542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289C-F8B2-4EC8-BD83-450E00E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9C7BD-73AA-44DD-B11F-C0F740A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2F072-BA3B-46DD-874F-27AD9D2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1BCE2-C206-4636-B8CB-CF9101F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7D5E9-6C00-4665-BDB1-C3428A8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C4118-6FC8-40C7-A872-3F2E75A1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CE1B9-2226-420A-B593-5C4DE9B6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F5C-135F-43F3-A2BA-DE9D47DD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2DB6E-94A4-4A48-991F-D0C71744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51C18-CB30-4A5D-8A0E-D24B04F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87FA3-6856-4E4B-938C-5CB8F5EC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4254A-3884-4B98-B068-8B8E5A58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26288-E654-449B-923B-7BAFC49E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C1B0C-7BC1-4EB8-B510-47BCA37C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E3B93-7C13-44BA-9992-1FA6CFA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BB366-ED5C-4267-A22C-83E4CC1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F870A-129A-4237-B995-9C30FEB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C15AF-6E65-4EA9-A9E7-A9A619ED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024-ACC4-413D-B83F-FFA33F4E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08351-0B8D-4AFB-AF57-64A7643C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5DE8E-17C5-484C-A1B2-A80E46AF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350C1-7EEA-443D-9072-98C2FFE2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E850-0759-42CD-A6A2-498F30D9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55C11-AD9E-4A09-8A08-449E00F3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4B12-7802-4B3C-9F7C-139EFF8D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82DDC-24F9-4234-A05B-38826C82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4EB7C-6E1A-4FDE-8C99-1526B3F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46361-E2D1-45B5-9D59-05C5586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9EF95-D617-448A-B785-4EFA7E9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D049-74A4-4E57-9898-816C4477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ADE26D-085C-416F-A73A-E203240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9260-BDCA-4F58-BB1A-098181CF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4487B-FF38-4B16-9F4C-E39C0233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81609-FE24-4620-9A13-BD1A03F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5A730-B10B-42E6-B9C1-C714BE39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D1152-D6DC-4172-961F-65EA3C1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91B1F-63F6-41CE-8642-746CE8E0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A8CD5-8D52-4841-81FE-E153AE93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498C9-4AC2-47B2-B05D-F62162B7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741A5-4A49-404E-A04C-E93B7C2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A479-CD19-4979-A815-F6023299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F6ADF-577C-4BAD-B6B0-B31ED43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352B7-E025-4154-B0C6-C040E8CA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E1C14-6EE9-4D60-8908-3DB9ADC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2B3DC-5B65-4331-8B94-48FDFDF9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BEB20-56DF-4A1A-8052-42C0FBC0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BCC25-4D46-4897-A609-87846A05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64AF7-D9CA-4714-8EA1-7FD84B0F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9B42E-2749-4C74-BB7D-1DF98803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40646-2DD5-41B3-88E0-A2A1CF05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58713-238D-4F66-BB5A-B92409DB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7BF0-058B-4F22-B50C-9FED54EE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326CE-4D65-48AD-BED8-000A10E1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28FAB-FA55-4E52-85DF-E1C6951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AF91B-EAED-41A5-97F7-D252057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FEF2C-64ED-4BB4-BBBC-038BB32D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29547-4F58-4B51-940A-62954858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C82E2-EEED-43CD-B888-E4D63C67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9C5AD-BA00-4ACF-9DFA-E6912E2E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3D0B1-7337-43E5-88F4-F285C524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59232-F2DB-4F43-BBCE-B9B7016C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B104C-46F8-40F2-BE75-BFFDE5E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5B23-F5D9-4768-9D35-52A42290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7C6AD-E82E-4B29-8DBD-9287D7C2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FB9E16-870A-42ED-9FFC-79AEBF3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5F1E4-9F77-41AB-8127-F91ED3F3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C4615-0869-407F-BC07-7F879745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4908F-EE4F-48DA-BE9B-1174BFB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74A55-BE0F-4292-9F67-AC6FB5C6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075B9-155E-4BAF-8E89-873BC118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F3A45-F13D-4233-AD64-3BAB2F86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D7B383-D3CE-4FC7-AF7B-1AFC05E1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0B1D2-D198-4919-B240-D3C0A418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08D3-7BB5-4597-B892-FA5C85E1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82A58-5616-4E4E-8577-EE85F830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BA90A-8210-4795-80B0-BB7814F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08872-0D70-4F0C-9233-AD1E51C7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CB912-B731-4D03-89BC-788BB2A7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EEACE-BF4A-4B7D-BD5C-48FFCEC6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F82CA-1D1D-4CD7-BFD8-0C9188A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F2945-5D39-48D0-9094-E0474A24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F3D90-F85A-4A63-93EF-865703A8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7A458-010D-4481-940D-222ACB7E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BFB2F-1371-4A1E-9E81-2B09D028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7CE3-9AFB-42EF-9481-C9433EF0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E2F34-80CC-4517-B0AE-6B51364B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A2518-2FF9-411B-800E-244F8003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CC5F2-5658-4F1B-B24A-E36F98BF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62016-042A-4F3C-9461-910B3747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14495-18B5-43B8-B10F-BD44131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3A3E3-1253-4F0F-879D-767A2FF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51A90-192A-46D5-B73E-2C2D174C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200B3-74F8-4A3A-B55B-37DCAD0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662B3-0743-406D-AFD2-A8C848E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065CA-6DA6-4F0B-922E-4C874E9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2E7B-4B19-474B-961E-D331A33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09BA0-8B93-4E99-9208-E35080E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4C2D8-4F29-4F94-8CB3-5171BB47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9147E6-029B-41D9-A51E-56189EC4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FA783-AF9F-4B52-B378-06901FE7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DE9F3-40BC-4726-BCCA-FA87373D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86662-30E2-40AC-9E37-7032BFAA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602D1-776D-49C7-8288-7CA44AA8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52B5F-ADA2-4FB2-822A-A13ECEC0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772D7-C800-472E-9487-15ADF957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9FA73-2189-4652-82A1-ABC9CFC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287B-15EE-46BD-859A-43ADABA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1C2-61A1-497C-970A-49A0417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88B0B-900D-42F7-BED8-D08D9FD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29D0B-8564-438A-B4F5-3DBAD683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7E89C-6FEC-4A06-83CD-5F671C71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BAC64-090D-4628-9362-03F19667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D62B9-52C7-4A6D-AC45-EDD54E5B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71435-546B-4374-BB70-F8BCE760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78538-988A-4007-8FEC-5758829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DE7BF-21FB-4A7F-B6CA-633582F6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2E3FF-DC77-4ECB-9182-6395FAE3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327EB-8529-4305-9E49-DCA6796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DFF-0169-4B55-875C-5692E3BF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A8E0C-0D7C-49AA-A562-8D87650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78C8B8-A840-44F5-BCC2-E2DC848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E610F-F45A-4B66-9155-0D1BEC2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8A6F5-A55C-4F89-AE33-3C00FD7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721EC3-86B4-44F9-A2B1-EC94030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56BFC-356F-4F8E-9BAF-2EAC326E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FD2A8D-AA4C-45DA-AEEE-8B569438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1DCAF4-9AAC-404D-9BFB-AFD033E1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724C6-46E0-45B9-8BC5-3E6D06D2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50838-34F0-4EC6-A9B9-D84A9611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F596-4EFC-4622-A48B-7367E22B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84A19-DA48-4E0D-8357-5C789366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3B2AD-30FB-4F91-88C7-DFB54D1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77525-B7F6-43C3-9927-826A87DB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4E1AB8-21B5-42D2-8826-00F89E2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20A8D-0487-44E1-B864-700C2477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918D0-09E2-4438-8597-6D2EE48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9BE1C-82E4-456A-A6EA-3A7DE19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A7E6E-F681-4CF4-8F08-604C89DE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CA2407-D596-4995-BB1C-FDED3009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B71CA-2A79-4FB9-9B86-9453CCEB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093-D0C8-4AC2-84ED-29B168F0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541B1-14C9-41D5-A5B3-DD0F3B4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B8B0A-1CC2-4705-9C95-6A948A15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A9DA1-AF1C-44C8-A257-1AF622A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D5E6E-BA71-4A9F-B2D5-5A91FE16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06171-7016-4D1C-988E-9007FD8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963DB-6636-4EAA-A7E5-A072E1C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E53A5-785D-41D2-AA5C-3C3F09E2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77A04-1712-40C5-B7B7-7E53E61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D2842-CE03-4C4D-8D9D-4FC420FE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51113-A462-429B-B7AD-5ABF27BD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B10E-376F-41EB-9FE2-FA9BF69C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6FD7A-6435-4DFB-A180-C28ED75F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D63C95-56F3-4BC8-ACA4-54ACB330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E3688-08D9-4AD5-BFA3-6138C8A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8307C-17E1-4BDB-B8D3-878D1AF7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38323-EE86-41EE-8BE6-8045E634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B2816-3A3B-4CC7-9F85-8072BB7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F0CA3-40E6-4F81-AD58-2F85ED94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B5701-360E-4E0F-989A-B3B98AF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ADF1C-1D05-49F2-9B1F-BF6B30B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B20EA-4A64-4598-8C86-F12D055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0C6E-374B-4889-8DFC-E5A5734F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2F277F-2054-4C9E-A4B3-F91F2C1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66EB9A-04CB-4D87-9789-5C7CB064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9DA8F-3325-4041-B899-193363D2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8C36A3-A862-47A9-BAF8-3DC097FA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C7562A-D14F-4E0F-B9E9-6FF2746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CF40C-1A16-4516-B189-3E7DB1FD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6B9180-08FB-4917-A70F-49D9FA93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18ECC-8E2D-49AD-B4E3-9892841C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BE2018-4D3F-4D1E-A1FC-2B608A8C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30C78A-1B9C-4F81-AB29-BC24E7F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BDF7-EB69-4CCC-91FF-84E75D2A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53FBC7-1969-4C57-91F9-DF144BB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4E5B5-01F6-487C-8CB0-204289D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A41AB7-4F08-4208-A413-59F3C7C0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3F459-0E3A-41CC-8F18-7DE12274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F7808B-750D-4FFC-923E-608F06BA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E31AC-7D98-4B49-840A-1043AAE6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D92704-733E-4E2B-B89E-750F8988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D0212A-11EE-4ED5-BA7F-0546B20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D617BA-043B-45A4-85DE-462901A2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CF159D-5BE5-495A-916F-5DE3BEB5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F4EE-9037-424F-ACFF-B598A0E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6D4835-0C82-4C7D-9160-98BF8798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96638-E35F-4581-9FF7-51876C3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D1CC1C-868F-4747-9B55-28C47C1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F45890-CC85-43A5-98FB-BBB22E0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EF711E-48B3-41A5-825B-D9E9F971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4828D-88A2-4A3C-8A64-5530E1F4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C16942-2A0E-4BDE-99CA-BDF7AE3F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5EB3B2-44E4-4731-9BE6-01D6F86C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49E511-6587-4241-BBF9-B312815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5BCDC7-7C6C-4D8D-A421-76165928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CB35-E34F-4B1E-9D17-CF0A7857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D598A8-50EF-459E-B05D-F8984A12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6CFC1-4D78-443E-B3BD-3905A56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8FC532-EB40-4232-9207-3A4F84D8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660AF-E2AC-4C7B-8B1D-3D242599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098C3D-FF95-4C08-A16F-95FCACB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EC4F0-B582-4FD9-B74A-D80667B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ACCA14-248F-4122-B402-0DA61BA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CAF623-CE56-4A40-BC8F-68F923CD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73014C-AD9D-4504-8D9E-BACDDD06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C3DA70-D522-42B5-898B-4692B41B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15BB-CFC0-4C7C-A0AB-129EDAB0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47FF28-F043-4CE2-BDEA-ED69CE09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606A07-061F-4E8E-AC12-813DB10F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7A8AC4-6EA6-4DE3-9AD4-258DBD32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395F9F-8433-4861-B10C-2F4B672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6F72AB-DE11-4D81-99DF-7DC705CF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D33BBE-6B7F-4761-8E5A-22F5B3E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0006C9-4508-43C9-8D07-8E92039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AC7847-7E3B-4497-AE2B-299FF5C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071B52-69C6-49FB-9B7A-0F69D447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251333-8565-4B26-A4B6-55A2D5AC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CFD-9C02-4AB5-A98F-8BC5035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DC8E-7745-4948-9553-E1C3E01A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9E9452-C01B-4009-9548-CF693C88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AFC402-33B4-415F-BB0C-376BC858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6F724F-4C36-41A4-B5C4-CF7A5E9A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9AE8D5-8565-4BFE-8DAE-BF55A30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A9BF37-9717-4147-A26E-98A4C2F1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5D5666-8F9B-4D33-82CB-02C899E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6AA0F-1CBD-44A9-9044-C5E4EF6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361D53-1B26-455E-A5AC-B35CFDB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933E64-F7B0-482F-9E7D-8E8A5D39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661BD9-9A52-4828-8EE1-5ED496B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C707-A04B-4D49-BD3B-F08C823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686825-376F-490F-8C06-D131D636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F25CE8-39BD-42C2-AD29-4FB9DE50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3E1E7F-9BB6-4230-8A96-857238B8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5935C9-346B-41C2-A788-DEC0BC1B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28C7ED-EDD1-43DC-9A0F-8DDEEF1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98D2ED-82A2-4963-A901-0AB4DD26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F346B-E8E8-4798-A03B-CF9950B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E9231A-800D-451D-AD9F-578FF21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AA3DD1-F0B6-4C7F-A955-3B3F836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5C97E-F093-4871-867B-F5AAF1B3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9C5D-90CD-413C-B31A-394C8427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6DCCBC-17BB-48AF-81A1-BC37C818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3CF6DA-D6E9-434F-B44D-7DC3A3D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FC5AF3-3056-48E3-8EA5-1E3781B8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A4566D-0102-43EA-AB70-57B2BEF6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8ADECD-F80B-4568-BEEB-A5888DD9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2CBB54-8FA9-4CDF-AB4D-370F6359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47833D-6FF1-4608-BD92-0E8660C3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1A987F-6C59-4D96-AB38-0521DAC0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5B6AC0-97DC-4250-ADFC-EFAFBDC6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1410A8-76EE-419E-92EC-635EAFB3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0C67-30A2-4B6E-8B3D-8DD8156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72B91-81AD-45FD-B2B7-96C44196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BEA632-D492-4917-9610-7D419D05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0BBF22-CD41-410A-9F4E-E8C3606E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12C8E5-93AA-4F44-9471-0AEC8841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FB9CDC-97E8-49D0-84C7-6888EDE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EBFC43-78FE-4D69-8C1C-3CCEBCDE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C75050-A05B-4498-B7C7-48E9F7FE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9D19-077E-47AA-BE2D-617FA863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A160-9348-4755-8E51-21AC6B3B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2B67-B403-43AE-96C5-7E425E4F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A56D-E148-4B80-BF05-512FA715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D97B-E575-4522-8475-AAE0A7B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70D4C-566C-4C39-A2D7-01E4425F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1D2-60F2-4D0C-A2A4-8EA0CB09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2B49-1C8B-44BC-B2CB-8D99B268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BE4AD-2069-40CD-9D74-86388242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CC6B-94A2-40D2-AD05-6AEBECE9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894E-ABCB-4AD3-A751-30FB8DE2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EF7B-5FFF-4653-8E19-8C88B28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CB60-2A9E-4EEB-8857-A488CB4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FC0D-6982-4E15-86FD-D13D9158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22BF6-D9D6-4760-A568-2E7FACBE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1523-1477-4AC5-B28B-1312C7E8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A283-ABAE-48D2-AF9C-7C00A9A5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FCE-780B-453B-9425-3F782BB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80B47-AC0E-4C0C-8A74-230109CC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A7B8B-AB4C-4BB9-9D26-1883427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E37A-6131-4D42-A761-A93A003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B5DEE-529A-4D74-BA39-5CEBA586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15DA-0234-4950-932D-CFB69559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6A67-59EE-4CBE-98D2-568D06AC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946F4-00E1-41A9-9A0C-FBAADF7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FD4B9-0DAF-47F0-97A3-884F143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0F1C0-2E5E-423A-A6E7-CEFEB2F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F0E5-0EE5-44B1-9377-487C52E8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65B-67E1-446D-A29C-B6DFF99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3042-3E0F-4161-A6A5-ED1A10D2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44ABE-4451-4D1F-A514-F7EA00AB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59BCB-BA99-48E0-B118-D6838BB4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17DB5-FBF2-49FA-A8AC-8446866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0E1D-314B-4979-99BB-82A3A0E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FF8C-A0EE-441A-BD79-276F55FD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8487-2D42-4FD9-AFCC-EEE15464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A57D2-883C-4547-AACA-AA6B0AA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10146-F602-4FC4-B246-D56C19BC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24F8-48DD-4CD0-B982-C53B9181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6EE-B100-48FA-93ED-FD185196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EF6C-9513-4120-94DA-F965F734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F636-7E87-4030-99DD-7C9A038A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1B481-AC3D-410E-AC4F-25C1DB5F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6A5D-2C3C-4111-80E6-37948398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0E099-D57A-43EF-ABE3-66B146BC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98FC8-51D5-46E5-B93C-9C8C5FBC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85CE-83AB-4403-B77B-D0709561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CA27-3E88-4A8F-B28D-3D9B61E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0FE1-EECC-4DD6-9C6F-64DE408F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E324-F7C6-4633-829F-CD3B3C2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668-25A6-4767-BA34-F1822A33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25FD1-3E51-4052-88FC-20F6A1A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3939-3F38-4B0D-A7ED-F688BF8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2BD7-BF49-4921-B0B6-789366A8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8721-9929-41C2-B57A-EC71ABDA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88A0-C225-4092-96E7-192F16B5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A06A-E381-4D07-A2F3-C35B7682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F95B-C5A2-46A4-A82E-4B2A2DCF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7714C-92E5-40DA-B6F6-294E1FC1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C1B79-B8A7-4A9E-BA72-BCB63EDE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09C2-DC85-4523-B72E-BCCC3F2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6A1-CDB1-4ED1-8013-1BF4CDF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0D0CF-2602-4A92-9F42-04075B08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CB160-67D9-401E-99BC-AB32F831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2A090-6DF9-4D03-90F4-5C053F4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A0A5B-11CA-48E1-80D6-652246D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31EC-2D6E-4B09-8714-35F7DDFA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3E136-5C40-46D5-9640-2AB2CF7F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57E19-0115-43EB-8D54-F99F4578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41262-D936-49C3-9004-B70E79C7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855B4-77DE-4929-9425-89AF441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FCD12-F53E-4427-B37D-CE5DD88A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DE55-C45B-4367-891F-BB56CD2A00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C911-6C88-442F-A2FB-F02A3E29F0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5CE-C2C7-4173-B4D8-E43F4F0449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218-2A76-4275-B6BD-8F6BF48670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3946-3924-4E61-B960-163D5EB896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86F-AAFD-4359-9FA5-46CFEDE1BF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85F-0278-404D-9DDD-F4919E0CB0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D15C-F252-47F4-835A-80B8ABEE6D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AEE9-9A30-474D-B754-A676EA2086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D570-2666-46A5-9813-49F1FDFE2E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630-017C-4956-BCD9-CF0C1F191A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811-02FA-4653-9E3E-0F4923801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087-E687-4527-B06E-A56C7C5143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322-4161-4F4F-BDDD-D310BF0022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1646-906F-4E34-AEF1-99A1DAB9EA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087D-7C16-4AD3-A0C7-A8193DAD14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4644-D271-498A-A791-02513C886F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170B-53EE-4D8E-91FC-76C9068EED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5EE8-12BB-4236-993B-F95F2B0E48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A65-E58A-4FF8-9A75-EE5B22AAB6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3D37-170D-4425-B8F1-646EC31D22D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0181-E274-460A-98F9-CA96A019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04B0-BBCF-4DA0-9DA4-D88634FF321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32D1-80BE-4F09-A04B-7DD2017017E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6E98-FF4C-413C-BFCE-70182556A1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B33-A067-446B-81D2-345C493D8B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DF4-4EBC-42EE-8930-3EF38D2E3E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E45-2FDF-4C9E-A93E-EBC23DA588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Title 2" descr=""/>
          <p:cNvPicPr/>
          <p:nvPr/>
        </p:nvPicPr>
        <p:blipFill>
          <a:blip r:embed="rId1"/>
          <a:stretch/>
        </p:blipFill>
        <p:spPr>
          <a:xfrm>
            <a:off x="304920" y="1706400"/>
            <a:ext cx="8935920" cy="323064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1" descr="C:\Documents and Settings\Ahaileslassie\Desktop\NBDC_LogoSmallSize_WebV.jpg"/>
          <p:cNvPicPr/>
          <p:nvPr/>
        </p:nvPicPr>
        <p:blipFill>
          <a:blip r:embed="rId2"/>
          <a:stretch/>
        </p:blipFill>
        <p:spPr>
          <a:xfrm>
            <a:off x="-19080" y="0"/>
            <a:ext cx="188424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8" name=""/>
          <p:cNvGraphicFramePr/>
          <p:nvPr/>
        </p:nvGraphicFramePr>
        <p:xfrm>
          <a:off x="123840" y="1676520"/>
          <a:ext cx="9020160" cy="1811160"/>
        </p:xfrm>
        <a:graphic>
          <a:graphicData uri="http://schemas.openxmlformats.org/drawingml/2006/table">
            <a:tbl>
              <a:tblPr/>
              <a:tblGrid>
                <a:gridCol w="6095880"/>
                <a:gridCol w="29242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cca62"/>
                      </a:solidFill>
                    </a:lnL>
                    <a:lnR>
                      <a:noFill/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odel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7cca62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1414440"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imate WR and consumption of crops grown under different soils Clim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cca62"/>
                      </a:solidFill>
                    </a:lnL>
                    <a:lnR>
                      <a:noFill/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WAT (vr. 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quaCrop (Vr. 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cca62"/>
                      </a:solidFill>
                    </a:lnR>
                    <a:lnT w="5760">
                      <a:solidFill>
                        <a:srgbClr val="7cca62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189" name="Rectangle 5"/>
          <p:cNvSpPr/>
          <p:nvPr/>
        </p:nvSpPr>
        <p:spPr>
          <a:xfrm>
            <a:off x="493560" y="36939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Vs alternative AWM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3" descr=""/>
          <p:cNvPicPr/>
          <p:nvPr/>
        </p:nvPicPr>
        <p:blipFill>
          <a:blip r:embed="rId1"/>
          <a:stretch/>
        </p:blipFill>
        <p:spPr>
          <a:xfrm>
            <a:off x="189000" y="4281480"/>
            <a:ext cx="8672400" cy="12049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4" descr=""/>
          <p:cNvPicPr/>
          <p:nvPr/>
        </p:nvPicPr>
        <p:blipFill>
          <a:blip r:embed="rId2"/>
          <a:stretch/>
        </p:blipFill>
        <p:spPr>
          <a:xfrm>
            <a:off x="189000" y="5486400"/>
            <a:ext cx="8955000" cy="1371600"/>
          </a:xfrm>
          <a:prstGeom prst="rect">
            <a:avLst/>
          </a:prstGeom>
          <a:ln w="0">
            <a:noFill/>
          </a:ln>
        </p:spPr>
      </p:pic>
      <p:pic>
        <p:nvPicPr>
          <p:cNvPr id="1192" name="Title 4" descr=""/>
          <p:cNvPicPr/>
          <p:nvPr/>
        </p:nvPicPr>
        <p:blipFill>
          <a:blip r:embed="rId3"/>
          <a:stretch/>
        </p:blipFill>
        <p:spPr>
          <a:xfrm>
            <a:off x="-244440" y="396720"/>
            <a:ext cx="9388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Title 1" descr=""/>
          <p:cNvPicPr/>
          <p:nvPr/>
        </p:nvPicPr>
        <p:blipFill>
          <a:blip r:embed="rId1"/>
          <a:stretch/>
        </p:blipFill>
        <p:spPr>
          <a:xfrm>
            <a:off x="-60480" y="384120"/>
            <a:ext cx="9204480" cy="13590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2" descr=""/>
          <p:cNvPicPr/>
          <p:nvPr/>
        </p:nvPicPr>
        <p:blipFill>
          <a:blip r:embed="rId2"/>
          <a:stretch/>
        </p:blipFill>
        <p:spPr>
          <a:xfrm>
            <a:off x="254160" y="1752480"/>
            <a:ext cx="888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2" descr=""/>
          <p:cNvPicPr/>
          <p:nvPr/>
        </p:nvPicPr>
        <p:blipFill>
          <a:blip r:embed="rId1"/>
          <a:stretch/>
        </p:blipFill>
        <p:spPr>
          <a:xfrm>
            <a:off x="-6480" y="0"/>
            <a:ext cx="9144000" cy="733572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3" descr=""/>
          <p:cNvPicPr/>
          <p:nvPr/>
        </p:nvPicPr>
        <p:blipFill>
          <a:blip r:embed="rId2"/>
          <a:stretch/>
        </p:blipFill>
        <p:spPr>
          <a:xfrm>
            <a:off x="685800" y="1122480"/>
            <a:ext cx="8001000" cy="676728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9829800" cy="711972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5" descr=""/>
          <p:cNvPicPr/>
          <p:nvPr/>
        </p:nvPicPr>
        <p:blipFill>
          <a:blip r:embed="rId4"/>
          <a:stretch/>
        </p:blipFill>
        <p:spPr>
          <a:xfrm>
            <a:off x="990720" y="1058760"/>
            <a:ext cx="10228320" cy="689472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2" descr=""/>
          <p:cNvPicPr/>
          <p:nvPr/>
        </p:nvPicPr>
        <p:blipFill>
          <a:blip r:embed="rId5"/>
          <a:stretch/>
        </p:blipFill>
        <p:spPr>
          <a:xfrm>
            <a:off x="555480" y="3505320"/>
            <a:ext cx="8817120" cy="61974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3" descr=""/>
          <p:cNvPicPr/>
          <p:nvPr/>
        </p:nvPicPr>
        <p:blipFill>
          <a:blip r:embed="rId6"/>
          <a:stretch/>
        </p:blipFill>
        <p:spPr>
          <a:xfrm>
            <a:off x="-25560" y="0"/>
            <a:ext cx="10439640" cy="9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1" name=""/>
          <p:cNvGraphicFramePr/>
          <p:nvPr/>
        </p:nvGraphicFramePr>
        <p:xfrm>
          <a:off x="76320" y="1066680"/>
          <a:ext cx="8991360" cy="407844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631800"/>
                <a:gridCol w="709560"/>
                <a:gridCol w="609480"/>
                <a:gridCol w="609840"/>
                <a:gridCol w="1303200"/>
                <a:gridCol w="677880"/>
                <a:gridCol w="1295280"/>
              </a:tblGrid>
              <a:tr h="730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 and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ing season eff. rainfall (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   (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WP with respect to eff. rainfall (kg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with respect to actual ETc    (kg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increase due to 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wari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gollo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jen 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ir Dar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awi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chena 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46aac5"/>
                      </a:solidFill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4320">
                      <a:solidFill>
                        <a:srgbClr val="46aac5"/>
                      </a:solidFill>
                    </a:lnR>
                    <a:lnT w="4320">
                      <a:solidFill>
                        <a:srgbClr val="46aac5"/>
                      </a:solidFill>
                    </a:lnT>
                    <a:lnB w="4320">
                      <a:solidFill>
                        <a:srgbClr val="46aa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1: WR, Consumption and WP of wheat grown on BBF and Flat seedb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6"/>
          <p:cNvSpPr/>
          <p:nvPr/>
        </p:nvSpPr>
        <p:spPr>
          <a:xfrm>
            <a:off x="25560" y="502920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BF and Flat beds planted on June 10 and August 15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"/>
          <p:cNvSpPr/>
          <p:nvPr/>
        </p:nvSpPr>
        <p:spPr>
          <a:xfrm>
            <a:off x="5715000" y="2362320"/>
            <a:ext cx="685800" cy="2514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3"/>
          <p:cNvSpPr/>
          <p:nvPr/>
        </p:nvSpPr>
        <p:spPr>
          <a:xfrm>
            <a:off x="5703840" y="3741840"/>
            <a:ext cx="685800" cy="449280"/>
          </a:xfrm>
          <a:prstGeom prst="ellipse">
            <a:avLst/>
          </a:prstGeom>
          <a:noFill/>
          <a:ln w="25560">
            <a:solidFill>
              <a:srgbClr val="00b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2: WR, Consumption and WP of rice, grass-pea and extensively  grazed grass grown on flat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52280" y="990720"/>
          <a:ext cx="8931240" cy="5492520"/>
        </p:xfrm>
        <a:graphic>
          <a:graphicData uri="http://schemas.openxmlformats.org/drawingml/2006/table">
            <a:tbl>
              <a:tblPr/>
              <a:tblGrid>
                <a:gridCol w="1189080"/>
                <a:gridCol w="1123920"/>
                <a:gridCol w="168480"/>
                <a:gridCol w="549000"/>
                <a:gridCol w="1276560"/>
                <a:gridCol w="1036440"/>
                <a:gridCol w="317520"/>
                <a:gridCol w="497160"/>
                <a:gridCol w="161640"/>
                <a:gridCol w="538200"/>
                <a:gridCol w="111240"/>
                <a:gridCol w="527040"/>
                <a:gridCol w="1434960"/>
              </a:tblGrid>
              <a:tr h="36540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Rice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with respect to 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l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444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Grass -pea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we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3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43720">
                <a:tc gridSpan="1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 type: Pasture  (extensive grazing)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 row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gera 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(kg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. rain 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WR (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mass WP (kg 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with respect to Actual 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25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6520" marR="5652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Title 1" descr=""/>
          <p:cNvPicPr/>
          <p:nvPr/>
        </p:nvPicPr>
        <p:blipFill>
          <a:blip r:embed="rId1"/>
          <a:stretch/>
        </p:blipFill>
        <p:spPr>
          <a:xfrm>
            <a:off x="79200" y="706320"/>
            <a:ext cx="8686800" cy="152424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 txBox="1"/>
          <p:nvPr/>
        </p:nvSpPr>
        <p:spPr>
          <a:xfrm>
            <a:off x="304920" y="20574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of BBF increased water demand, but reduced evaporation l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BF increased WP with respect to effective rainf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wing rice instead of grass-pea or grazing  increased water demand, but reduced evapo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of BBF on drainable and rice on flat land increased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Economic Water Productiv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Title 1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8309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1:57:10Z</dcterms:created>
  <dc:creator>Ahaileslassie</dc:creator>
  <dc:description/>
  <dc:language>en-US</dc:language>
  <cp:lastModifiedBy>Erkossa, Teklu  (IWMI)</cp:lastModifiedBy>
  <dcterms:modified xsi:type="dcterms:W3CDTF">2012-11-12T10:23:40Z</dcterms:modified>
  <cp:revision>124</cp:revision>
  <dc:subject/>
  <dc:title>Water productivity of mixed crop-livestock systems: progresses and challenges   Amare Haileslassie; Teklu Erkossa</dc:title>
</cp:coreProperties>
</file>